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0391-7329-4086-98EF-CB9F27969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8C35-F25F-4FC2-8926-3BF993943E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783-8AE5-478E-9006-EF1D6BA4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20B-71DC-43D2-9A18-08FFE1D4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D4D-29EF-4435-8879-62DD509C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E8D7-A456-47CD-BE72-851113C6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564-A7CF-4BB3-9E73-2458EDD1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A6A-D8A6-4A0C-8670-DEBB07A6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CA3-06F0-4688-9FBE-EDEFDAD5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999-7179-4AE8-877E-4C9EB838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E85-95E2-4A6A-88AF-2B6CB3D7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BCF9-C21E-4275-AC25-D32AFC10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95A0-B117-44B5-93BB-E5798872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BEE-5C7A-48C8-B5FB-E71ADEF9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B402-2FD1-42CA-8914-64D40FEBD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rainpop.com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brainpop.com/science/motionsforcesandtime/magnetism/" TargetMode="External"/><Relationship Id="rId4" Type="http://schemas.openxmlformats.org/officeDocument/2006/relationships/image" Target="../media/image2.wmf"/><Relationship Id="rId5" Type="http://schemas.openxmlformats.org/officeDocument/2006/relationships/hyperlink" Target="http://www.brainpop.com/technology/energytechnology/staticelectricity/zoom.weml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i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195880"/>
            <a:ext cx="42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/12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52280" y="228600"/>
            <a:ext cx="876312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llectab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657600"/>
            <a:ext cx="8153280" cy="27752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None This Week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76520" y="2286000"/>
            <a:ext cx="579096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eek 7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13258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ject Step 2:  Due MONDA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ey Questions 11-15 Due Friday, March 26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typed!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1143000"/>
            <a:ext cx="8763120" cy="3581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ifference between static electricity and magnetism is that charges can exist by themselves and magnetic poles always occur in pair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TPChart"/>
          <p:cNvGraphicFramePr/>
          <p:nvPr/>
        </p:nvGraphicFramePr>
        <p:xfrm>
          <a:off x="4508640" y="2438280"/>
          <a:ext cx="4572000" cy="43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438280"/>
                    <a:ext cx="457200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" name="AnswerNow"/>
          <p:cNvGrpSpPr/>
          <p:nvPr/>
        </p:nvGrpSpPr>
        <p:grpSpPr>
          <a:xfrm>
            <a:off x="3048120" y="152280"/>
            <a:ext cx="2222280" cy="444240"/>
            <a:chOff x="3048120" y="152280"/>
            <a:chExt cx="2222280" cy="444240"/>
          </a:xfrm>
        </p:grpSpPr>
        <p:sp>
          <p:nvSpPr>
            <p:cNvPr id="110" name="ANShape"/>
            <p:cNvSpPr/>
            <p:nvPr/>
          </p:nvSpPr>
          <p:spPr>
            <a:xfrm>
              <a:off x="3048120" y="15228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NText"/>
            <p:cNvSpPr/>
            <p:nvPr/>
          </p:nvSpPr>
          <p:spPr>
            <a:xfrm>
              <a:off x="3048120" y="15228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5638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472428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Times New Roman"/>
              </a:rPr>
              <a:t>Magnetism &amp; Static Electri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0666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562284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brainpop.com/science/motionsforcesandtime/magnetis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6320" y="76320"/>
            <a:ext cx="5796720" cy="914400"/>
            <a:chOff x="76320" y="76320"/>
            <a:chExt cx="5796720" cy="914400"/>
          </a:xfrm>
        </p:grpSpPr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76320" y="76320"/>
              <a:ext cx="1338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 txBox="1"/>
            <p:nvPr/>
          </p:nvSpPr>
          <p:spPr>
            <a:xfrm>
              <a:off x="1447560" y="187200"/>
              <a:ext cx="4425480" cy="73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12480" y="6262560"/>
            <a:ext cx="84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brainpop.com/technology/energytechnology/staticelectricity/zoom.we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BrainPop: Magnetism &amp; Static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– Switch for EFP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extbook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Key Question 14 &amp;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P Step 2 Due 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Questions 11-15 Due 3/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electricity and magnetism rel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624276C5-B1CA-4149-830F-19DF73AC76D1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ompare and Contrast Static Electricity and Magnetism.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31251" t="28003" r="32500" b="41003"/>
          <a:stretch/>
        </p:blipFill>
        <p:spPr>
          <a:xfrm>
            <a:off x="1523880" y="2057400"/>
            <a:ext cx="60962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0" y="0"/>
            <a:ext cx="22860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:  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e:  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:  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320" y="152280"/>
            <a:ext cx="6705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gnetism &amp; Static Electric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book Assign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66680"/>
            <a:ext cx="9144000" cy="58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 PAGES 14-19 TO ANSWER QUESTIONS 1-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part of an atom spins to produce a magnetic field?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most materials not magnetic?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ORMALLY ELECTRONS FORM PAIRS THAT SPIN IN OPPOSITE DIR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ANCELLING OUT THE MAGNETIC FIELDS LEAVING THE MATERIAL UNMAGNAT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 domain arrangements of magnetized and not magnetized materials compare?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AGNATIZED MATERIALS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OMAINS THAT ARE ALLIGNED AND FACING THE SAME DIRECTION, WHILE MATERIALS THAT AREN’T MAGNAT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HAVE DOMAINS THAT FACE IN MANY RANDOM DIRECTIONS AND CANCEL EACH OTHER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common ferromagnetic materials found in nature?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RON, NICKEL, COBALT, GONDOLINIUM, NEODYMIUI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ND SAMARIUM ARE SOME COMMON FERROMAGNETIC MATERIALS FOUND IN 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you make a temporary magnet from a paperclip?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Y RUBBING IN ONE DIRCTION WITH ONE POL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AGNET YOU CAN MAKE A TEMPORARY MAGNET FROM A PAPER CLIP.  THIS CAUSES THE DOMAINS IN THE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APERCLIP TO LINE UP WITH THE POLES OF THE MAGNET CAUSING THE CLIP TO BECOME MAGNAT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wo different ways to destroy a magnet?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AGNETS CAN BE DESTROYED BY DROPPING/HITTING OR H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you break a magnet in half?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HEN A MAGNET IS CUT OR BROKEN IN HALF IT BECOMES 2 SM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AGNETS.  EACH MAGNET WILL HAVE A NORTH AND SOUTH POLE ON ITS E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 “ELECTRIC CHARGE” (PAGE 35) TO ANSWER QUESTIONS 8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s that are the same 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REPEL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s that are different 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TTRACT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one important difference between electric charges and magnetic poles?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LECTRIC CHARGES CAN EX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LONE (A BUILD-UP OF POSITIVE OR NEGATIVE CHARGE), BUT MAGNETIC POLES ARE ALWAYS IN PAIRS (N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ND SOUTH TOGETH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434880"/>
            <a:ext cx="9144000" cy="61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 “STATIC ELCTRICITY” (PAGE 37) TO ANSWER QUESTIONS 11 &amp;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tatic electricity?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TATIC ELECTRICITY IS THE BUILD-UP OF CHARGES ON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static mean?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TATIC MEANS “NOT MOVING OR CHANGING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 “TRANSFERRING CHARGE” (PAGES 38 &amp; 39) TO ANSWER QUESTIONS 13-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b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FRICTION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transfer of electrons from one uncharged object to another b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RUBB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by 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ONDUCTION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transfer of electrons from a charged object to another by direct 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ONTACT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by 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DUCTION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transfer of electrons to one part of an object that is caused by the electr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IELD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a second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 “STATIC DISCHARGE” (PAGES 40 &amp; 41) TO ANSWER QUESTIONS 16 &amp; 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negatively and positively charged objects are brought near each other?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HEN OPPOSIT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OBJECTS ARE BROUGHT NEAR EACH OTHER ELECTRONS TRANSFER UNTIL BOTH OBJECTS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ny spark you see when touching a doorknob and lightning are both examples of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STATIC DISCHARGE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320" y="609480"/>
            <a:ext cx="8991360" cy="65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EY QUESTION 14: What is magnetism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fine magnetism, magnetic poles, and magnetic fiel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ch the terms below with their defini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etis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s of a magnetic object where the magnetic force is stron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s inside all objects that when lined up create a mag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eld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of attraction or repulsion among magnetic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mai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isible region around a magnet where magnetic force is exe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scribe how magnets behave when brought near each oth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uld the magnets below attract or repe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scribe how an object can be magnetiz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can you do to create a temporary magnet out of a paperclip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440" y="0"/>
            <a:ext cx="8963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Key Question Exit Sl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6676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0976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42900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819840" y="3505320"/>
            <a:ext cx="95256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962840" y="3505320"/>
            <a:ext cx="952560" cy="380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3840" y="3949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5608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7248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486080" y="394956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648320" y="3962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8077320" y="3962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609480"/>
            <a:ext cx="8991360" cy="48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EY QUESTION 15: What is static electricity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fine static electri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c electricity i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dentify 2 types of electric charge and describe how they interact with each oth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aw arrows to represent the motion of the balls in the picture given the charges indic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ive examples of times when you may experience static electricity or how it can be usefu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n have you felt or witnessed a static discharg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ify at least 3 instances of static electricity in use during real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440" y="0"/>
            <a:ext cx="8963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Key Question Exit Sl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0" r="70021" b="-9021"/>
          <a:stretch/>
        </p:blipFill>
        <p:spPr>
          <a:xfrm>
            <a:off x="198108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69369" t="0" r="0" b="0"/>
          <a:stretch/>
        </p:blipFill>
        <p:spPr>
          <a:xfrm>
            <a:off x="1066680" y="2666880"/>
            <a:ext cx="505080" cy="41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0" t="0" r="70021" b="-9021"/>
          <a:stretch/>
        </p:blipFill>
        <p:spPr>
          <a:xfrm>
            <a:off x="480060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69369" t="0" r="0" b="0"/>
          <a:stretch/>
        </p:blipFill>
        <p:spPr>
          <a:xfrm>
            <a:off x="7543800" y="2743200"/>
            <a:ext cx="504720" cy="419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rcRect l="0" t="0" r="70021" b="-9021"/>
          <a:stretch/>
        </p:blipFill>
        <p:spPr>
          <a:xfrm>
            <a:off x="396252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rcRect l="69369" t="0" r="0" b="0"/>
          <a:stretch/>
        </p:blipFill>
        <p:spPr>
          <a:xfrm>
            <a:off x="6734160" y="2743200"/>
            <a:ext cx="504720" cy="419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590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7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6556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166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97680" y="2349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82316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3:26:26Z</dcterms:created>
  <dc:creator>CCPS</dc:creator>
  <dc:description/>
  <dc:language>en-US</dc:language>
  <cp:lastModifiedBy>CCPS</cp:lastModifiedBy>
  <dcterms:modified xsi:type="dcterms:W3CDTF">2010-03-12T13:26:51Z</dcterms:modified>
  <cp:revision>1</cp:revision>
  <dc:subject/>
  <dc:title>Slide 1</dc:title>
</cp:coreProperties>
</file>